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8C7-EA75-44F3-8A38-37D04F4A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BB4-F0AD-4323-966C-ACF66239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923-32C2-4B2D-B9CB-B59EED96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71D-C814-449C-82B1-4259C3F5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54A-C1F9-47B1-984A-1C75CABE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CD1-47F9-48B1-8387-55A25CFF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14E-EF28-4AC0-A1A3-F8D3364D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6F9-27FA-4C0B-B90C-D8B8096E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066-56D5-45BE-8050-AA67B707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814-9C80-44FF-A85A-B3DB7CF7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8F6-234F-4B17-82F4-21386FF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B69-9D78-4D4B-95E7-DD80B901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5114F-E51F-4828-9444-53950F019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ocer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weets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ke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irdresser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verend%20John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xer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utcher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njurer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octor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irefighters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muel Pepy's Diary from Pudding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sten and complete the informations on each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9280"/>
            <a:ext cx="918072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360360"/>
            <a:ext cx="899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" y="179280"/>
            <a:ext cx="845964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60360"/>
            <a:ext cx="882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9640" y="360360"/>
            <a:ext cx="792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" y="179280"/>
            <a:ext cx="845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179280"/>
            <a:ext cx="95392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9280"/>
            <a:ext cx="684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2:11:22Z</dcterms:created>
  <dc:creator>dominique  camier</dc:creator>
  <dc:description/>
  <dc:language>en-US</dc:language>
  <cp:lastModifiedBy>dominique  camier</cp:lastModifiedBy>
  <dcterms:modified xsi:type="dcterms:W3CDTF">2014-03-02T12:21:49Z</dcterms:modified>
  <cp:revision>10</cp:revision>
  <dc:subject/>
  <dc:title/>
</cp:coreProperties>
</file>